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ED4-3204-4AF7-8863-6C465EB7F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D798-1F40-4472-8E5D-214652C36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503-8D29-4F72-B1CF-ADBC4FC59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78C-18F6-4590-81E6-97B0557CB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6DF4-4702-451E-B30D-9B7EAAAB5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9FC-5E85-4D2D-AE40-4003701C1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A5B1-2F4E-49E8-B4ED-86F4538CC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7B2-E648-41C5-A8D4-535081BA7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F249-09C7-4B89-94AE-245966E68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0413-C130-4EC9-BD6A-DDB4F9512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DD5-DBE0-4ED2-A5AD-EE42E50C6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D432-6DAF-422B-A694-CC4F8F892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564-3CF1-4930-85EC-C1CBAA0FD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3C5-D015-4C55-B8B5-4B802370A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A7F-FF7F-41C7-AB88-156AB100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226-C1FC-49EF-98AD-D370D46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85F-E864-4F83-8F53-DB2B7BA5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234-3184-4703-ABC8-43CABD4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790-BE57-4513-8C9D-D4D7D30B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CCC-085A-473E-839A-314CF1A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4E2-9022-49AC-81C3-8D1501A4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138-7FF2-480A-A003-277D8F85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85C-9ABA-49D0-BF18-0042DC9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1CE-39D6-4132-8010-33E47EB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F97-4429-4354-9474-C95342F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47F-9AFA-4808-A7C4-1F6D363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BE7-6F90-482A-B565-36431852C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hotomuse.org/media/database/00235.jpg"/>
          <p:cNvPicPr/>
          <p:nvPr/>
        </p:nvPicPr>
        <p:blipFill>
          <a:blip r:embed="rId1"/>
          <a:stretch/>
        </p:blipFill>
        <p:spPr>
          <a:xfrm>
            <a:off x="2286000" y="2057400"/>
            <a:ext cx="4762440" cy="359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57768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’Opéra de Paris 18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hoto de l'Opéra de Paris vers 1920."/>
          <p:cNvPicPr/>
          <p:nvPr/>
        </p:nvPicPr>
        <p:blipFill>
          <a:blip r:embed="rId1"/>
          <a:stretch/>
        </p:blipFill>
        <p:spPr>
          <a:xfrm>
            <a:off x="1905120" y="1752480"/>
            <a:ext cx="5267160" cy="392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746080" y="106668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Théatre et place de L’Opéra vers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3574800" y="22860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’Opéra de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jourd’h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upload.wikimedia.org/wikipedia/commons/2/21/Facade_opera_Garnier.jpg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[Paris: Theatre de l'Opera (Palais Garnier)]"/>
          <p:cNvPicPr/>
          <p:nvPr/>
        </p:nvPicPr>
        <p:blipFill>
          <a:blip r:embed="rId1"/>
          <a:stretch/>
        </p:blipFill>
        <p:spPr>
          <a:xfrm>
            <a:off x="2743200" y="1676520"/>
            <a:ext cx="3914640" cy="3914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219320" y="9144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 National de Paris - La salle de spectacle du Palais Garn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2280" y="838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smovisions.com/images/AL63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pload.wikimedia.org/wikipedia/commons/2/21/Facade_opera_Garnie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ndreas-praefcke.de/carthalia/france/images/f_paris_opera_3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elmaet &amp; Durandelle&#13;&#10;French (active 1862-1890)&#13;&#10;Work Yard in Front of the Opera, October 1864&#13;&#10;Albumen print&#13;&#10;16.3 x 22.2 cm.&#13;&#10;George Eastman House Collection, gift of Eastman Kodak Company: ex-collection Gabriel Cromer   "/>
          <p:cNvPicPr/>
          <p:nvPr/>
        </p:nvPicPr>
        <p:blipFill>
          <a:blip r:embed="rId1"/>
          <a:stretch/>
        </p:blipFill>
        <p:spPr>
          <a:xfrm>
            <a:off x="1905120" y="1523880"/>
            <a:ext cx="4762440" cy="3486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594520" y="83808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Yard in front of the Opéra,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elmaet &amp; Durandelle&#13;&#10;French (active 1862-1890)&#13;&#10;Auditorium Seen from Right Side, Looking Toward Stage, October 1864&#13;&#10;Albumen print&#13;&#10;28.4 x 38.6 cm.&#13;&#10;George Eastman House Collection, gift of Eastman Kodak Company: ex-collection Gabriel Cromer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253520" y="83808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orium seen from right side, looking toward stage, October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elmaet &amp; Durandelle&#13;&#10;French (active 1862-1890)&#13;&#10;Wrapped Columns, Right Secondary Stairs, 1866&#13;&#10;Albumen print&#13;&#10;26.2 X 38.2 cm.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057400" y="14479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998360" y="68580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Columns, Right Secondary Stairs, 18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elmaet &amp; Durandelle&#13;&#10;French (active 1862-1890)&#13;&#10;Workmen on the Opera Roof Above the Stage Flytower, May 1869&#13;&#10;Albumen print &#13;&#10;27.0 x 38.3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133720" y="144792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303560" y="762120"/>
            <a:ext cx="62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men on the opera roof above the stage flytower, May 186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elmaet &amp; Durandelle&#13;&#10;French (active 1862-1890)&#13;&#10;Iron Girders of the Stage Flytower,&#13;&#10;1868&#13;&#10;Albumen print &#13;&#10;27.4 x 39.4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31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667960" y="76212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on girders of the stage flytower, 1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elmaet &amp; Durandelle&#13;&#10;French (active 1862-1890)&#13;&#10;Steel Girders of Subscribers' Vestibule,&#13;&#10;March 1964&#13;&#10;Albumen print&#13;&#10;22.0 x 16.0 cm.&#13;&#10;George Eastman House Collection, gift of Eastman Kodak Company: ex-collection Gabriel Cromer    "/>
          <p:cNvPicPr/>
          <p:nvPr/>
        </p:nvPicPr>
        <p:blipFill>
          <a:blip r:embed="rId1"/>
          <a:stretch/>
        </p:blipFill>
        <p:spPr>
          <a:xfrm>
            <a:off x="3124080" y="990720"/>
            <a:ext cx="343872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09680" y="380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el girders of subscribers’ vestibule, March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elmaet &amp; Durandelle&#13;&#10;French (active 1862-1890)&#13;&#10;Stone Cutters at Work on the Opera's Attic Frieze, January-August 1867&#13;&#10;Albumen print&#13;&#10;38.8 x 27.3 cm.  &#13;&#10;George Eastman House Collection, gift of Eastman Kodak Company: ex-collection Gabriel Cromer"/>
          <p:cNvPicPr/>
          <p:nvPr/>
        </p:nvPicPr>
        <p:blipFill>
          <a:blip r:embed="rId1"/>
          <a:stretch/>
        </p:blipFill>
        <p:spPr>
          <a:xfrm>
            <a:off x="2971800" y="1066680"/>
            <a:ext cx="3286080" cy="4762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011240" y="533520"/>
            <a:ext cx="68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ne cutters at work on the Opera’s Attic Frieze, January – August 18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elmaet &amp; Durandelle&#13;&#10;French (active 1862-1890)&#13;&#10;Head of Minerva by Louis-Félix Chabaud,&#13;&#10;1865-68 &#13;&#10;Albumen print &#13;&#10;39.2 x 28.1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895480" y="838080"/>
            <a:ext cx="3429000" cy="4762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008440" y="22860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 of Minerva by Louis-Félix Chabaud, 1865 - 1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3:05:51Z</dcterms:created>
  <dc:creator>Cristy</dc:creator>
  <dc:description/>
  <dc:language>en-US</dc:language>
  <cp:lastModifiedBy>Cristy</cp:lastModifiedBy>
  <dcterms:modified xsi:type="dcterms:W3CDTF">2009-05-10T01:32:45Z</dcterms:modified>
  <cp:revision>9</cp:revision>
  <dc:subject/>
  <dc:title>Slide 1</dc:title>
</cp:coreProperties>
</file>